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F862-B66B-4D08-B608-D9A6EED828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A3D-E958-4B46-86BE-4338ECAF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7B9-FCD6-44F8-9DA2-DCDDB7CA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1E8-7506-4ABB-97F3-AD8BD44B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A9E-D194-464A-8F94-E6704E98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376D-80B3-4621-85B4-653D7AD8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1E47-DC09-4784-BE32-DC7FD7BF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489A-8426-4771-B1BB-A29E583E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0A50-AC87-4827-ACF8-D12CCD94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8C46-8E5C-496C-8286-1ED41B4F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1F57-D60A-406B-94C3-2FF5C373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B3D3-55A2-4049-9703-7323B602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0EA-9332-4E9C-81A1-C92F9B30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F556-1B68-48A1-B65D-469AECB6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61F5-3A09-4829-8900-97CF59F5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47B7-ECBE-41BD-94C7-6556D9D5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508D-D5D5-4BB1-B6B5-1643B29E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2B7D-446B-41E3-9234-18BCED23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B26-243D-4F66-B90F-EB334FA3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F45-28D5-406B-A5B1-91FB9458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56E-FD34-4984-90B1-BA7525A0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0D1-C706-460A-A9EC-033EE1A3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AB2-1DC4-4B46-8231-D4CDE43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ADA-9BE0-4158-A8DA-E4C96350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A44-C319-48F5-AF93-C5E64A0C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F0A-5CCB-4B93-AB71-50654618AC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F23C-CE46-4B89-B623-BA77527452F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LEGION</cp:lastModifiedBy>
  <dcterms:modified xsi:type="dcterms:W3CDTF">2017-07-03T10:43:17Z</dcterms:modified>
  <cp:revision>75</cp:revision>
  <dc:subject/>
  <dc:title>Units 4 &amp; 5 </dc:title>
</cp:coreProperties>
</file>